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A23-F579-4123-A931-F8FFD885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963-093A-447E-8CF7-05DB125A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EAA-48C7-4813-AAD4-1C1F34D7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571-973C-4014-96A2-5C5BC4EB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C3F-58CF-498F-B509-2E807AC1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316-9BBA-4784-8BC6-3AE42A8E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71B-AB31-4D16-A4E0-29AA72BF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122-DC34-402C-8155-3FF722A7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FEC-50C4-4CB8-BA3A-100D4492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D64-68B8-48DC-9749-4E4DB8A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1E5-4F43-43EB-8C9F-3B4EA82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ECA-4D2E-4EB6-BB38-DC69874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3BBB-9EB8-4C46-B251-EC71D572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276640"/>
            <a:ext cx="74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Monotype Corsiva"/>
              </a:rPr>
              <a:t>Водоро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447640" cy="216864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665440" cy="226872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Получение водорода в лаборато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заимодействие активных металлов с вод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2 К + 2 Н</a:t>
            </a:r>
            <a:r>
              <a:rPr b="1" lang="ru-RU" sz="3200" spc="-1" strike="noStrike" baseline="-25000">
                <a:solidFill>
                  <a:srgbClr val="cc00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О = 2 КОН + Н</a:t>
            </a:r>
            <a:r>
              <a:rPr b="1" lang="ru-RU" sz="3200" spc="-1" strike="noStrike" baseline="-25000">
                <a:solidFill>
                  <a:srgbClr val="cc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3166920" cy="232236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Получение водорода в лаборато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заимодействие цинка и раствора серной кисл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Zn + H</a:t>
            </a:r>
            <a:r>
              <a:rPr b="1" lang="en-US" sz="3200" spc="-1" strike="noStrike" baseline="-25000">
                <a:solidFill>
                  <a:srgbClr val="cc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cc00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 = ZnSO</a:t>
            </a:r>
            <a:r>
              <a:rPr b="1" lang="en-US" sz="3200" spc="-1" strike="noStrike" baseline="-25000">
                <a:solidFill>
                  <a:srgbClr val="cc00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cc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592360" cy="281484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СПОСОБЫ  СОБИРАНИЯ  ВОД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7934400" cy="202716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11280" y="2205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cc00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теснением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280" y="134136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00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теснением воздух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РАСПОЗНАВАНИЕ  ВОД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3657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Times New Roman"/>
              </a:rPr>
              <a:t>При внесении горящей спички в атмосферу водорода раздаётся хлоп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1073800">
            <a:off x="324000" y="1125000"/>
            <a:ext cx="2016000" cy="1430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2881440" cy="229716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</a:rPr>
              <a:t>Получение водорода в промыш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ложение в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O = 2H</a:t>
            </a:r>
            <a:r>
              <a:rPr b="1" lang="en-US" sz="3200" spc="-1" strike="noStrike" baseline="-25000">
                <a:solidFill>
                  <a:srgbClr val="cc0099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  <a:ea typeface="Arial"/>
              </a:rPr>
              <a:t>↑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cc0099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Конверсия природного г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2СН</a:t>
            </a:r>
            <a:r>
              <a:rPr b="1" lang="ru-RU" sz="3200" spc="-1" strike="noStrike" baseline="-25000">
                <a:solidFill>
                  <a:srgbClr val="cc0099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+ О</a:t>
            </a:r>
            <a:r>
              <a:rPr b="1" lang="ru-RU" sz="3200" spc="-1" strike="noStrike" baseline="-25000">
                <a:solidFill>
                  <a:srgbClr val="cc00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= СО</a:t>
            </a:r>
            <a:r>
              <a:rPr b="1" lang="ru-RU" sz="3200" spc="-1" strike="noStrike" baseline="-25000">
                <a:solidFill>
                  <a:srgbClr val="cc00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+ Н</a:t>
            </a:r>
            <a:r>
              <a:rPr b="1" lang="ru-RU" sz="3200" spc="-1" strike="noStrike" baseline="-25000">
                <a:solidFill>
                  <a:srgbClr val="cc0099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67280" y="4627440"/>
            <a:ext cx="2819520" cy="187488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ДОМАШНЕЕ 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8200" y="2133360"/>
            <a:ext cx="860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§ 25, 26, 27 (физические свойства водород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пр. 1—7 (с. 76—7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3500280"/>
            <a:ext cx="2001960" cy="256248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ПЛАН 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крытие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арактеристика химического элемента вод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арактеристика простого вещества вод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пособы получения водорода в лаборатории и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пособы собирания водорода в со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Monotype Corsiva"/>
              </a:rPr>
              <a:t>Открытие   водо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68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1766 год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звестный английский ученый 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Генри Кавенди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лучил «искусственный воздух» действием цинка на разведенную серую кислоту. «Воздух» Кавендиша оказался не видоизменением обычного атмосферного воздуха, а совершенно самостоятельным веществом. Он хорошо горел, почему и получил название «горючего воздух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1787 году  А. Лавуазь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казал, что этот «воздух» входит в состав воды, и дал ему название, 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«гидрогениум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.е. «рождающий воду» - 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«водор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1944720" cy="237312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1944720" cy="234144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звание элем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имически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   Относительная атомная м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   Вален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.   Распространенность элемента в   природе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713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Пл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характеристики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80360" cy="424800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59440" y="549360"/>
            <a:ext cx="81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РАСПРОСТРАНЕННОСТЬ  ВОД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844640"/>
            <a:ext cx="8209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азвание элемента – </a:t>
            </a: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вод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Химический знак –  </a:t>
            </a: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Относительная атомная масса –  </a:t>
            </a: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r</a:t>
            </a: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(Н)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Валентность – 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Распространенность элемента в   природе – </a:t>
            </a: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9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ХАРАКТЕРИСТИКА  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1158000">
            <a:off x="7164360" y="836640"/>
            <a:ext cx="1562040" cy="110808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План  характеристики  простого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. Химическая 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 Относительная молекулярная м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 Физ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. Способы получения в лаборатории и в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5. Хим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6. Нахождение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7. Прим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075120" cy="214164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37320" y="333360"/>
            <a:ext cx="85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ФИЗИЧЕСКИЕ  СВОЙСТВА  ВОД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1700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УЧЕБНИК СТР.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8642520" cy="217800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19a7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Получение водорода в лаборато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ых лабораториях для получения водород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ьзуются разными прибо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й знаменитый из них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cc0099"/>
                </a:solidFill>
                <a:latin typeface="Times New Roman"/>
              </a:rPr>
              <a:t>аппарат Кипп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лопрл"/>
          <p:cNvPicPr/>
          <p:nvPr/>
        </p:nvPicPr>
        <p:blipFill>
          <a:blip r:embed="rId2"/>
          <a:stretch/>
        </p:blipFill>
        <p:spPr>
          <a:xfrm>
            <a:off x="468360" y="3068640"/>
            <a:ext cx="2666880" cy="273672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  <p:pic>
        <p:nvPicPr>
          <p:cNvPr id="66" name="Picture 5" descr="ы"/>
          <p:cNvPicPr/>
          <p:nvPr/>
        </p:nvPicPr>
        <p:blipFill>
          <a:blip r:embed="rId3"/>
          <a:stretch/>
        </p:blipFill>
        <p:spPr>
          <a:xfrm>
            <a:off x="6443640" y="3068640"/>
            <a:ext cx="2160720" cy="2736720"/>
          </a:xfrm>
          <a:prstGeom prst="rect">
            <a:avLst/>
          </a:prstGeom>
          <a:ln w="25560">
            <a:solidFill>
              <a:srgbClr val="cc0099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07:42:08Z</dcterms:created>
  <dc:creator>User</dc:creator>
  <dc:description/>
  <dc:language>en-US</dc:language>
  <cp:lastModifiedBy>User</cp:lastModifiedBy>
  <dcterms:modified xsi:type="dcterms:W3CDTF">2009-08-04T04:30:19Z</dcterms:modified>
  <cp:revision>10</cp:revision>
  <dc:subject/>
  <dc:title>Слайд 1</dc:title>
</cp:coreProperties>
</file>